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A179-EDCD-44EB-9115-8EEDEDF68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67B4A-D755-453F-8AE6-11269590F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BF52-C82D-47CD-A66B-FA796D46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9716-DE4E-4C20-89ED-2AEF3AD9F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D7E69-6523-4BF5-AAAC-EBD3EF2ED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A0D1-4D7C-47D8-8622-6E110A63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2B3D0-FBD0-446C-A504-922E6E034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0FA6D-815E-4C4B-A416-F7B3495F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C312-2585-48CE-9BF4-ED9DF67D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C9975-EAF0-42BC-B406-F0B9E4B7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877C8-A2CD-4D4C-B366-7504103B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C538-CD5D-49E6-89EE-35D6DB6E0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316E-9A17-4904-94B2-81D976D73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2EF8-9D0D-4531-A1B8-ED9BFB04B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3T02:46:14Z</dcterms:modified>
  <cp:revision>119</cp:revision>
  <dc:subject/>
  <dc:title>Wikispaces for Teachers A guide to using them in your classroom</dc:title>
</cp:coreProperties>
</file>