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B21DC-3FC6-4C80-BEE2-52EED87D8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56A36-05A0-4947-A317-855A5B2E6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CB0BA-1D7D-49FD-BD12-F26C7200D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A7337-40C4-436A-B623-A0F961517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04AE8-4BCD-431F-9FD8-7895B6328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5C56B-D822-40D5-AE9F-C0E86E059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C0051-DC86-454F-9396-AD7450A7C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25117-C21B-4243-BD01-26F79EA27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6BF82-E946-4C48-9929-C58D8DD40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D5533-5886-41F9-9AA4-E7964933B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B0E49-1431-4C4A-9913-2E2795F24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9150D-73EB-4D11-AF56-A7A4BD24C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C49FE-281B-4979-AB34-A1E163208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727A-2032-4BB3-A4B7-8DFD3614D9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Theresa Reardon</cp:lastModifiedBy>
  <dcterms:modified xsi:type="dcterms:W3CDTF">2008-09-13T02:46:14Z</dcterms:modified>
  <cp:revision>119</cp:revision>
  <dc:subject/>
  <dc:title>Wikispaces for Teachers A guide to using them in your classroom</dc:title>
</cp:coreProperties>
</file>