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02A4-DB4D-42D0-9A2C-81C785F78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B9A11-CE0A-487E-9BA6-BD3786872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8D976-D827-4EA6-B9EF-1AD316317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8BEA5-0299-4CD3-9C65-8E80FC0BF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25080-D265-4CAF-8BA6-E05B94F22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ABAAC-D340-40BA-8AEB-6CE60D56F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1672-CF64-418D-8970-90216A066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13FEE-B342-40CA-B835-788A07254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548D-2FAC-4341-AD4F-9C5C83825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925CD-0467-4397-8E9F-CF0432767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D9A2-2937-4939-BEE4-767F1578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99B56-44D8-4ABF-B039-453BD796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54729-D400-497E-BA30-8B119CEF6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8BCE-14B7-42B9-B999-FC76CF2A2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Theresa Reardon</cp:lastModifiedBy>
  <dcterms:modified xsi:type="dcterms:W3CDTF">2008-09-13T02:46:14Z</dcterms:modified>
  <cp:revision>119</cp:revision>
  <dc:subject/>
  <dc:title>Wikispaces for Teachers A guide to using them in your classroom</dc:title>
</cp:coreProperties>
</file>